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4.png" ContentType="image/png"/>
  <Override PartName="/ppt/media/image3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8A80-F5DB-45B7-8624-5BECDE67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3E08-BEC0-47B0-A6E4-662B377F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DBB2-D1DE-4120-96D3-D8987110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B525-4D08-42D4-A8A2-11651B81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3BEC6-F7DD-45E2-8EBD-579562BC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722C5-C8C9-4B95-B982-1E223467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EC16D-2271-4C14-A622-DC809CF3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C0B3B-13B4-4A66-B4F7-A561F220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58743-FE3F-4FB9-9131-B25A6308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7707B-FA97-4E9F-860E-BEDC01CC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20D6E-1586-4A75-B8F6-42F8A48E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EBD-7143-45CF-9DDC-0CA33DBD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E82BE-2A39-4FBF-9338-87076694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75468-95D9-490E-A0B4-95E07A39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39D3C-A2B5-46D1-80B6-49A2AA28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A0A8D-8ABE-4F03-815E-D45A59CA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6AD2A-7DDF-42A2-AE6F-AA0657CA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554AD-37DD-4EEB-9604-AC2F67E2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E1CA7-05B3-4DB0-AC08-BA931320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238EA-BC01-4CC8-8921-3808A52B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675C1-A90F-4681-92F5-61F9EBFC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2E8BE-E333-4B61-8927-F2A33437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DF1C-2F5F-4E79-9237-7B675125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6F62C-91FF-4ADB-9DAE-11A567BA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0C77B-8851-44EE-9050-2665DDB5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7275D-FB3F-4137-B450-D0F4BC1F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B4235-1C09-4CF3-B5CF-68EB3024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8C14C-8A7A-4A05-A9D2-F8740613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F7C28-DFA9-47F9-BF8B-097957ED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23AC7-8A52-4887-8C5C-AA736668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B995F5-FE8D-4ED2-B1C3-B0B8683A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ABE528-040B-4326-B7C0-B0EA6B72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50BF41-9BC8-4247-BD2C-AEF6929F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2F8-97F0-4B8D-B066-4E89636B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066C20-8FB8-4E86-885A-2732A445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0322FE-B92A-4ED0-905E-FE09D507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B48C99-2EA4-4F0B-9C04-E1AD1BD8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A36DDC-46CC-43D4-906B-F07470AE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95CA27-BE48-48FA-B30D-E0CDEE24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A5C953-DD97-4FFA-8CCF-82295E6F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FE74C5-0752-470D-AF2B-BE6B3797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3B66A4-CCC0-4CB5-9A0B-78565316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A98555-E1C3-459C-A9E5-3439F560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5915-04E1-440D-A2A0-16BB2A3C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5C04-71D6-4C63-8DCF-B62C29EF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552-3BF0-4F67-A1DA-5C2D610B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3262-195F-468C-A4D5-60E01F57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6D3D-98A1-46B2-A1DA-26CFA791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A871-9985-4CC4-BB6B-3097C0F74555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9B5F-FD55-473C-BC41-A510FC393E4C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48F3-82DB-453C-BF76-4C0A369B60ED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31B6-B6D7-4F89-8BE4-23B0EBE3E74E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yandex.ru/yandsearch?ed=1&amp;text=&#1082;&#1086;&#1088;&#1088;&#1091;&#1087;&#1094;&#1080;&#1103;&amp;img_url=uksvoidom.ru/images/pages/pic/120_61.jpg&amp;rpt=simage&amp;p=9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ed=1&amp;text=&#1082;&#1086;&#1088;&#1088;&#1091;&#1087;&#1094;&#1080;&#1103;&amp;img_url=mouvaldivatskoe.ucoz.ru/_si/0/61078101.jpg&amp;rpt=simage&amp;p=8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ed=1&amp;text=&#1076;&#1084;&#1080;&#1090;&#1088;&#1080;&#1081;%20&#1084;&#1077;&#1076;&#1074;&#1077;&#1076;&#1077;&#1074;%20&#1092;&#1086;&#1090;&#1086;%20&#1080;%20&#1082;&#1072;&#1088;&#1090;&#1080;&#1085;&#1082;&#1080;&amp;p=1&amp;img_url=news.pskovonline.ru/images/medvedev_ofic_b02.jpg&amp;rpt=simage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s.yandex.ru/yandsearch?ed=1&amp;text=&#1088;&#1091;&#1089;&#1089;&#1082;&#1080;&#1077;%20&#1083;&#1077;&#1090;&#1086;&#1087;&#1080;&#1089;&#1080;%20&#1082;&#1072;&#1088;&#1090;&#1080;&#1085;&#1082;&#1080;&amp;p=57&amp;img_url=img12.nnm.ru/2/a/f/2/4/0ee473f45b5a00260c96e839d3b_prev.jpg&amp;rpt=simage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yandex.ru/yandsearch?ed=1&amp;text=&#1048;&#1074;&#1072;&#1085;%20III%20&#1082;&#1072;&#1088;&#1090;&#1080;&#1085;&#1082;&#1080;&amp;p=9&amp;img_url=sv-rasseniya.narod.ru/wp-content/uploads/2010/hrono/3-arxeologicheskie/foto-299.jpg&amp;rpt=simage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images.yandex.ru/yandsearch?ed=1&amp;text=&#1048;&#1074;&#1072;&#1085;%20IV%20&#1082;&#1072;&#1088;&#1090;&#1080;&#1085;&#1082;&#1080;&amp;p=0&amp;img_url=www.rulex.ru/portret/31-044.jpg&amp;rpt=simage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images.yandex.ru/yandsearch?ed=1&amp;text=&#1055;&#1077;&#1090;&#1088;%20I%20&#1082;&#1072;&#1088;&#1090;&#1080;&#1085;&#1082;&#1080;&amp;p=18&amp;img_url=img1.liveinternet.ru/images/attach/c/2/68/709/68709486_135208_680x600.jpg&amp;rpt=simage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images.yandex.ru/yandsearch?text=&#1076;&#1077;&#1082;&#1088;&#1077;&#1090;%20&#1086;%20&#1074;&#1079;&#1103;&#1090;&#1086;&#1095;&#1085;&#1080;&#1095;&#1077;&#1089;&#1090;&#1074;&#1077;%201918%20&#1075;%20&#1082;&#1072;&#1088;&#1090;&#1080;&#1085;&#1082;&#1080;&amp;p=0&amp;img_url=donetsk.comments.ua/images/ris8.jpg&amp;rpt=simage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images.yandex.ru/yandsearch?text=&#1043;&#1077;&#1088;&#1073;%20&#1057;&#1057;&#1057;&#1056;%201922%20&#1075;%20&#1082;&#1072;&#1088;&#1090;&#1080;&#1085;&#1082;&#1080;&amp;p=2&amp;img_url=73046.ucoz.ru/_ph/44/2/622579089.gif&amp;rpt=simage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450720" y="1779480"/>
            <a:ext cx="8321760" cy="26593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3" descr="http://im7-tub-ru.yandex.net/i?id=376427860-39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5880" y="4214880"/>
            <a:ext cx="2071800" cy="15001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8480"/>
            <a:ext cx="830592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44d26"/>
                </a:solidFill>
                <a:latin typeface="Constantia"/>
              </a:rPr>
              <a:t>STOP</a:t>
            </a:r>
            <a:r>
              <a:rPr b="0" lang="ru-RU" sz="6000" spc="-1" strike="noStrike">
                <a:solidFill>
                  <a:srgbClr val="444d26"/>
                </a:solidFill>
                <a:latin typeface="Constantia"/>
              </a:rPr>
              <a:t> –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4d26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200" spc="-1" strike="noStrike">
                <a:solidFill>
                  <a:srgbClr val="444d26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200" spc="-1" strike="noStrike">
                <a:solidFill>
                  <a:srgbClr val="444d26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2071800"/>
            <a:ext cx="822960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еждународный день борьбы с коррупцией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Заголовок 2" descr=""/>
          <p:cNvPicPr/>
          <p:nvPr/>
        </p:nvPicPr>
        <p:blipFill>
          <a:blip r:embed="rId1"/>
          <a:stretch/>
        </p:blipFill>
        <p:spPr>
          <a:xfrm>
            <a:off x="219240" y="311040"/>
            <a:ext cx="8516880" cy="1700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зятк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тра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локи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могательств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аворитизм - в государственной и общественной жизни страстное покровительство любимцам (фаворитам) и назначение любимцев на высокие долж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лоупотребление должностными полномочия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42600" y="713880"/>
            <a:ext cx="7929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1 июня 2011 год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Госдума приняла в первом чтении президентский законопроект по борьбе с коррупци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Он обязывает чиновников и депутатов каждый год предоставлять сведения о доходах и имуществе своей семьи, наказывает увольнением за неполную декларацию или скрытое участие в работе бизнес - структу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4" descr="http://im6-tub-ru.yandex.net/i?id=527479812-35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4000680"/>
            <a:ext cx="2714400" cy="2214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Содержимое 6" descr="http://im8-tub-ru.yandex.net/i?id=546333842-62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3680" y="0"/>
            <a:ext cx="4000320" cy="3714840"/>
          </a:xfrm>
          <a:prstGeom prst="rect">
            <a:avLst/>
          </a:prstGeom>
          <a:ln w="0">
            <a:noFill/>
          </a:ln>
        </p:spPr>
      </p:pic>
      <p:pic>
        <p:nvPicPr>
          <p:cNvPr id="207" name="Содержимое 9" descr="http://im2-tub-ru.yandex.net/i?id=336083755-59-72"/>
          <p:cNvPicPr/>
          <p:nvPr/>
        </p:nvPicPr>
        <p:blipFill>
          <a:blip r:embed="rId3"/>
          <a:stretch/>
        </p:blipFill>
        <p:spPr>
          <a:xfrm>
            <a:off x="0" y="0"/>
            <a:ext cx="4214880" cy="371484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5"/>
          <p:cNvSpPr/>
          <p:nvPr/>
        </p:nvSpPr>
        <p:spPr>
          <a:xfrm>
            <a:off x="214200" y="4143240"/>
            <a:ext cx="421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Владимир Путин, Президент РФ : «Коррупция деморализует общество, разлагает власть и госаппара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7"/>
          <p:cNvSpPr/>
          <p:nvPr/>
        </p:nvSpPr>
        <p:spPr>
          <a:xfrm>
            <a:off x="4643280" y="4214880"/>
            <a:ext cx="428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Дмитрий Медведев, премьер-министр РФ : «Хватит ждать! Коррупция превратилась в системную проблем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11" name="Содержимое 9" descr="737_news.jpg"/>
          <p:cNvPicPr/>
          <p:nvPr/>
        </p:nvPicPr>
        <p:blipFill>
          <a:blip r:embed="rId2"/>
          <a:stretch/>
        </p:blipFill>
        <p:spPr>
          <a:xfrm>
            <a:off x="2000160" y="2428920"/>
            <a:ext cx="5715000" cy="3771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225360" y="182520"/>
            <a:ext cx="8785440" cy="1822320"/>
          </a:xfrm>
          <a:prstGeom prst="rect">
            <a:avLst/>
          </a:prstGeom>
          <a:ln w="0">
            <a:noFill/>
          </a:ln>
        </p:spPr>
      </p:pic>
      <p:pic>
        <p:nvPicPr>
          <p:cNvPr id="213" name="Содержимое 3" descr="кор 6.jpg"/>
          <p:cNvPicPr/>
          <p:nvPr/>
        </p:nvPicPr>
        <p:blipFill>
          <a:blip r:embed="rId2"/>
          <a:stretch/>
        </p:blipFill>
        <p:spPr>
          <a:xfrm>
            <a:off x="0" y="2133720"/>
            <a:ext cx="4560840" cy="453060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3"/>
          <p:cNvSpPr/>
          <p:nvPr/>
        </p:nvSpPr>
        <p:spPr>
          <a:xfrm>
            <a:off x="4737960" y="2852640"/>
            <a:ext cx="425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Борьб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 коррупцией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ело каждог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928800" y="1523880"/>
            <a:ext cx="73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Рисунок 3" descr="http://im0-tub-ru.yandex.net/i?id=334477022-11-72"/>
          <p:cNvPicPr/>
          <p:nvPr/>
        </p:nvPicPr>
        <p:blipFill>
          <a:blip r:embed="rId1"/>
          <a:stretch/>
        </p:blipFill>
        <p:spPr>
          <a:xfrm>
            <a:off x="3143160" y="3429000"/>
            <a:ext cx="2714760" cy="25588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6426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а)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злоупотребление служебным положением, дача взятки, получение взятки, злоупотребление полномочиями, коммерческий подкуп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ибо иное незаконное использование физическим лицом своего должностного положения вопреки законным интересам общества и государства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в целях получения выгоды в виде денег, ценностей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иного имущества или услуг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мущественного характера, иных имущественных прав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ля себя или для третьих лиц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либо незаконное предоставление такой выгоды указанному лицу другими физическими лицами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4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4335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8229600" cy="747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57200" y="999720"/>
            <a:ext cx="41860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XIII ве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В России, первые упоминания о коррупции, которая определялась  понятием  «мздоимство», исходят  из русских  летописе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В законе за мздоимство назначались кары, но их почти никто не боялся, и взятки брали все, а кто их не брал, тех звали простофилями и даже дурак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8" name="Рисунок 4" descr="http://im7-tub-ru.yandex.net/i?id=86916555-23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1500120"/>
            <a:ext cx="4143600" cy="4643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07172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XV век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Первое законодательное ограничение    коррупционной деятельности было           осуществлено в царствование Ивана II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Судебник 1497 г устанавливал розыскную            форму процесса, предусматривал в качестве             мер наказания смертную казнь, торговую казнь (битьё кнутом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Судебник расширил круг деяний, признавшихся уголовно наказуемыми: крамола, «церковная татьба» (святотатство), ябедничество; дал понятие преступления, а также особо опасного преступл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126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4" descr="http://im3-tub-ru.yandex.net/i?id=160631447-12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3840" y="1143000"/>
            <a:ext cx="1643040" cy="2214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XVI ве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Во время правления                        Ивана IV, впервые                        ввелась смертная казнь в наказание                                 за чрезмерность во взятках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4" name="Содержимое 5" descr="http://im3-tub-ru.yandex.net/i?id=145416081-42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64040" y="15238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XVIII ве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При Петре I в России был широкий размах и коррупции, и одновременно жестокой борьбы с ней. Так, Петр I совместно с коллегиями ввёл деятельность Тайной канцелярии (Тайной полиции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7" name="Содержимое 8" descr="http://im0-tub-ru.yandex.net/i?id=350442502-65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7160" y="2000160"/>
            <a:ext cx="3357720" cy="32860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Текст 4" descr=""/>
          <p:cNvPicPr/>
          <p:nvPr/>
        </p:nvPicPr>
        <p:blipFill>
          <a:blip r:embed="rId1"/>
          <a:stretch/>
        </p:blipFill>
        <p:spPr>
          <a:xfrm>
            <a:off x="347760" y="1395360"/>
            <a:ext cx="4157640" cy="774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5720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первые в России ввел в практику декларирование имуществ государственных служащих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лександр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976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1" name="Заголовок 2" descr=""/>
          <p:cNvPicPr/>
          <p:nvPr/>
        </p:nvPicPr>
        <p:blipFill>
          <a:blip r:embed="rId2"/>
          <a:stretch/>
        </p:blipFill>
        <p:spPr>
          <a:xfrm>
            <a:off x="212760" y="15228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48320" y="1399680"/>
            <a:ext cx="403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444d26"/>
              </a:solidFill>
              <a:latin typeface="Constantia"/>
            </a:endParaRPr>
          </a:p>
        </p:txBody>
      </p:sp>
      <p:pic>
        <p:nvPicPr>
          <p:cNvPr id="193" name="Рисунок 3" descr="48730b9e91f9.jpg"/>
          <p:cNvPicPr/>
          <p:nvPr/>
        </p:nvPicPr>
        <p:blipFill>
          <a:blip r:embed="rId3"/>
          <a:stretch/>
        </p:blipFill>
        <p:spPr>
          <a:xfrm>
            <a:off x="4643280" y="1357200"/>
            <a:ext cx="4286520" cy="52866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Заголовок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1918 г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По декрету о взяточничестве полагалось тюремное заключение на 5 лет с конфискацией имуще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Содержимое 6" descr="http://im4-tub-ru.yandex.net/i?id=165656253-16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7640" y="1523880"/>
            <a:ext cx="313848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1922 г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По Уголовному кодексу за взяточничество – расстрел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1957 г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Официальная борьба приостановлена, так как коррупция считалась редким явлением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Содержимое 5" descr="http://im7-tub-ru.yandex.net/i?id=337545037-34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6200" y="1857240"/>
            <a:ext cx="3214800" cy="3429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5:54:17Z</dcterms:created>
  <dc:creator>Татьяна</dc:creator>
  <dc:description/>
  <dc:language>en-US</dc:language>
  <cp:lastModifiedBy>MCOM</cp:lastModifiedBy>
  <dcterms:modified xsi:type="dcterms:W3CDTF">2020-12-04T08:13:29Z</dcterms:modified>
  <cp:revision>57</cp:revision>
  <dc:subject/>
  <dc:title>Слайд 1</dc:title>
</cp:coreProperties>
</file>