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910-F92D-449E-AC7C-B6D64B4A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6C5-4351-4EA5-A6E8-A466086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0F4-0CCB-4064-A2EB-E5E795F6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E59-A7E2-40CA-BA0A-21C3995F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1504B-8849-4D82-B9A5-A70397A9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94277-80EC-4842-A3B3-9F39B79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E0001-894F-42E0-990A-96FC833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8A670-D85C-438C-8DB9-1ABD9C4B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569E-3EFA-4469-9CBB-6C339B6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F1AB-96F7-4AEA-87AF-8E4E33C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5D1FE-BACD-4929-A373-6DCA91CC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2C1-0DEF-4CB0-8A4D-E594FFF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383A-EA73-4B66-AB15-6943332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DA2E-AA93-438C-9CA5-D8C619C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B9734-6027-4D11-9AF6-591DBF55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2B06E-EA7D-4E03-97B0-6A7D50E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DBD8-C511-4931-9CB5-3A38EECF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EC0C-9940-4FED-9E6D-F63365F4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A6B6-B482-4AA9-892F-39AC998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9CB7-91F0-43D4-AC71-D14EA25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78B4-3A62-49B2-8588-8C2B3182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57B4-95B1-4B03-8DA6-97DBFF00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DD9-F87D-4254-9766-42415CF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FA73-AD41-4EB6-A48D-44F5DB5D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6CA4-B067-4234-A0E2-561B79A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954D-60B3-4478-B51C-A506258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6101-57D0-44C5-8D9F-2DC0552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F88C-1EFE-4DC6-95A1-A8D3E2F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6CF1-0331-46CA-A7B7-6E4002C8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B0DE-8899-4A5E-A685-BDDE114A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0864A-6838-4518-A096-CD48EF43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6EDFE-2FB1-4290-8E3F-C18C498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1B1CD-9226-481B-B313-37DE2B7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A68-B733-45B9-9297-9BF211C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43F69-F718-42E8-B06B-C55E27F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D62EE-1AF8-422C-BC8C-3FECA474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5662F-17CA-46E1-A148-32EBD51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A878F-A8FC-46F9-AE00-172BF61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C33D6-D85E-4C99-B48A-361FEF4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0EA0F-5057-4D13-9E6F-7272146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70664-FBA1-49AA-887E-0C3A74D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324A2-20EC-4B72-AAA8-842648BE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EDB3F-B24F-4A2C-9CC6-E97DEAB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CB4-2351-45A0-AD89-B7180BE8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A3F-0F89-43B2-8F6F-7DAC5ECD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CC7-C294-44F2-8BF9-B9A5AE87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2A9-B7BA-4D08-959A-71CD960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B8C-B4E0-4E35-B343-66FF396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E3C-C595-4AA5-9EC7-16B349E147D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F1A-4672-4A5D-82BD-ED757948DF7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AFB7-B8D3-49F0-9A82-E22336F5E10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5B5-B937-4519-B558-12D6B9CE084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yandsearch?ed=1&amp;text=&#1082;&#1086;&#1088;&#1088;&#1091;&#1087;&#1094;&#1080;&#1103;&amp;img_url=uksvoidom.ru/images/pages/pic/120_61.jpg&amp;rpt=simage&amp;p=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82;&#1086;&#1088;&#1088;&#1091;&#1087;&#1094;&#1080;&#1103;&amp;img_url=mouvaldivatskoe.ucoz.ru/_si/0/61078101.jpg&amp;rpt=simage&amp;p=8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76;&#1084;&#1080;&#1090;&#1088;&#1080;&#1081;%20&#1084;&#1077;&#1076;&#1074;&#1077;&#1076;&#1077;&#1074;%20&#1092;&#1086;&#1090;&#1086;%20&#1080;%20&#1082;&#1072;&#1088;&#1090;&#1080;&#1085;&#1082;&#1080;&amp;p=1&amp;img_url=news.pskovonline.ru/images/medvedev_ofic_b02.jpg&amp;rpt=simage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yandex.ru/yandsearch?ed=1&amp;text=&#1088;&#1091;&#1089;&#1089;&#1082;&#1080;&#1077;%20&#1083;&#1077;&#1090;&#1086;&#1087;&#1080;&#1089;&#1080;%20&#1082;&#1072;&#1088;&#1090;&#1080;&#1085;&#1082;&#1080;&amp;p=57&amp;img_url=img12.nnm.ru/2/a/f/2/4/0ee473f45b5a00260c96e839d3b_prev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ed=1&amp;text=&#1048;&#1074;&#1072;&#1085;%20III%20&#1082;&#1072;&#1088;&#1090;&#1080;&#1085;&#1082;&#1080;&amp;p=9&amp;img_url=sv-rasseniya.narod.ru/wp-content/uploads/2010/hrono/3-arxeologicheskie/foto-299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48;&#1074;&#1072;&#1085;%20IV%20&#1082;&#1072;&#1088;&#1090;&#1080;&#1085;&#1082;&#1080;&amp;p=0&amp;img_url=www.rulex.ru/portret/31-044.jpg&amp;rpt=s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55;&#1077;&#1090;&#1088;%20I%20&#1082;&#1072;&#1088;&#1090;&#1080;&#1085;&#1082;&#1080;&amp;p=18&amp;img_url=img1.liveinternet.ru/images/attach/c/2/68/709/68709486_135208_680x600.jpg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76;&#1077;&#1082;&#1088;&#1077;&#1090;%20&#1086;%20&#1074;&#1079;&#1103;&#1090;&#1086;&#1095;&#1085;&#1080;&#1095;&#1077;&#1089;&#1090;&#1074;&#1077;%201918%20&#1075;%20&#1082;&#1072;&#1088;&#1090;&#1080;&#1085;&#1082;&#1080;&amp;p=0&amp;img_url=donetsk.comments.ua/images/ris8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43;&#1077;&#1088;&#1073;%20&#1057;&#1057;&#1057;&#1056;%201922%20&#1075;%20&#1082;&#1072;&#1088;&#1090;&#1080;&#1085;&#1082;&#1080;&amp;p=2&amp;img_url=73046.ucoz.ru/_ph/44/2/622579089.gif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1779480"/>
            <a:ext cx="8321760" cy="2659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http://im7-tub-ru.yandex.net/i?id=376427860-39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214880"/>
            <a:ext cx="2071800" cy="1500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3059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4d26"/>
                </a:solidFill>
                <a:latin typeface="Constantia"/>
              </a:rPr>
              <a:t>STOP</a:t>
            </a:r>
            <a:r>
              <a:rPr b="0" lang="ru-RU" sz="6000" spc="-1" strike="noStrike">
                <a:solidFill>
                  <a:srgbClr val="444d26"/>
                </a:solidFill>
                <a:latin typeface="Constantia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07180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ждународный день борьбы с коррупцией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19240" y="311040"/>
            <a:ext cx="851688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ят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а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локи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могатель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лоупотребление должностными полномоч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42600" y="713880"/>
            <a:ext cx="7929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 июня 2011 г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Госдума приняла в первом чтении президентский законопроект по борьбе с коррупци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н обязывает чиновников и депутатов каждый год предоставлять сведения о доходах и имуществе своей семьи, наказывает увольнением за неполную декларацию или скрытое участие в работе бизнес - структу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ttp://im6-tub-ru.yandex.net/i?id=527479812-3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4000680"/>
            <a:ext cx="2714400" cy="2214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6" descr="http://im8-tub-ru.yandex.net/i?id=546333842-6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9" descr="http://im2-tub-ru.yandex.net/i?id=336083755-59-72"/>
          <p:cNvPicPr/>
          <p:nvPr/>
        </p:nvPicPr>
        <p:blipFill>
          <a:blip r:embed="rId3"/>
          <a:stretch/>
        </p:blipFill>
        <p:spPr>
          <a:xfrm>
            <a:off x="0" y="0"/>
            <a:ext cx="4214880" cy="37148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214200" y="41432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ладимир Путин, Президент РФ : «Коррупция деморализует общество, разлагает власть и госаппа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4643280" y="421488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Дмитрий Медведев, премьер-министр РФ : «Хватит ждать! Коррупция превратилась в системную проблем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9" descr="737_news.jpg"/>
          <p:cNvPicPr/>
          <p:nvPr/>
        </p:nvPicPr>
        <p:blipFill>
          <a:blip r:embed="rId2"/>
          <a:stretch/>
        </p:blipFill>
        <p:spPr>
          <a:xfrm>
            <a:off x="2000160" y="2428920"/>
            <a:ext cx="5715000" cy="3771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3" descr="кор 6.jpg"/>
          <p:cNvPicPr/>
          <p:nvPr/>
        </p:nvPicPr>
        <p:blipFill>
          <a:blip r:embed="rId2"/>
          <a:stretch/>
        </p:blipFill>
        <p:spPr>
          <a:xfrm>
            <a:off x="0" y="2133720"/>
            <a:ext cx="4560840" cy="45306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4737960" y="2852640"/>
            <a:ext cx="425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орь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 коррупцией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ло кажд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928800" y="1523880"/>
            <a:ext cx="73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3" descr="http://im0-tub-ru.yandex.net/i?id=334477022-11-72"/>
          <p:cNvPicPr/>
          <p:nvPr/>
        </p:nvPicPr>
        <p:blipFill>
          <a:blip r:embed="rId1"/>
          <a:stretch/>
        </p:blipFill>
        <p:spPr>
          <a:xfrm>
            <a:off x="3143160" y="3429000"/>
            <a:ext cx="2714760" cy="2558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а)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лоупотребление служебным положением, дача взятки, получение взятки, злоупотребление полномочиями, коммерческий подкуп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бо иное незаконное использование физическим лицом своего должностного положения вопреки законным интересам общества и государств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 целях получения выгоды в виде денег, ценност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ного имущества или услу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ущественного характера, иных имущественных пра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ебя или для третьих лиц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либо незаконное предоставление такой выгоды указанному лицу другими физическими лицами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296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999720"/>
            <a:ext cx="4186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III ве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России, первые упоминания о коррупции, которая определялась  понятием  «мздоимство», исходят  из русских  летопис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законе за мздоимство назначались кары, но их почти никто не боялся, и взятки брали все, а кто их не брал, тех звали простофилями и даже дурак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" name="Рисунок 4" descr="http://im7-tub-ru.yandex.net/i?id=86916555-23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500120"/>
            <a:ext cx="4143600" cy="464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 ве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ервое законодательное ограничение    коррупционной деятельности было           осуществлено в царствование Ивана II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1497 г устанавливал розыскную            форму процесса, предусматривал в качестве             мер наказания смертную казнь, торговую казнь (битьё кнуто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расширил круг деяний, признавшихся уголовно наказуемыми: крамола, «церковная татьба» (святотатство), ябедничество; дал понятие преступления, а также особо опасного преступ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12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http://im3-tub-ru.yandex.net/i?id=160631447-1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3840" y="114300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 ве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о время правления                        Ивана IV, впервые                        ввелась смертная казнь в наказание                                 за чрезмерность во взятк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Содержимое 5" descr="http://im3-tub-ru.yandex.net/i?id=145416081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II ве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ри Петре I в России был широкий размах и коррупции, и одновременно жестокой борьбы с ней. Так, Петр I совместно с коллегиями ввёл деятельность Тайной канцелярии (Тайной полици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Содержимое 8" descr="http://im0-tub-ru.yandex.net/i?id=350442502-6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000160"/>
            <a:ext cx="3357720" cy="3286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Текст 4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первые в России ввел в практику декларирование имуществ государственных служащи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ександр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93" name="Рисунок 3" descr="48730b9e91f9.jpg"/>
          <p:cNvPicPr/>
          <p:nvPr/>
        </p:nvPicPr>
        <p:blipFill>
          <a:blip r:embed="rId3"/>
          <a:stretch/>
        </p:blipFill>
        <p:spPr>
          <a:xfrm>
            <a:off x="4643280" y="1357200"/>
            <a:ext cx="4286520" cy="5286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18 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декрету о взяточничестве полагалось тюремное заключение на 5 лет с конфискацией иму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Содержимое 6" descr="http://im4-tub-ru.yandex.net/i?id=165656253-1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7640" y="1523880"/>
            <a:ext cx="31384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22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Уголовному кодексу за взяточничество – расстрел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57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фициальная борьба приостановлена, так как коррупция считалась редким явление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5" descr="http://im7-tub-ru.yandex.net/i?id=337545037-34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185724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4:17Z</dcterms:created>
  <dc:creator>Татьяна</dc:creator>
  <dc:description/>
  <dc:language>en-US</dc:language>
  <cp:lastModifiedBy>MCOM</cp:lastModifiedBy>
  <dcterms:modified xsi:type="dcterms:W3CDTF">2020-12-04T08:13:29Z</dcterms:modified>
  <cp:revision>57</cp:revision>
  <dc:subject/>
  <dc:title>Слайд 1</dc:title>
</cp:coreProperties>
</file>