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3.png" ContentType="image/png"/>
  <Override PartName="/ppt/media/image11.jpeg" ContentType="image/jpeg"/>
  <Override PartName="/ppt/media/image6.jpeg" ContentType="image/jpeg"/>
  <Override PartName="/ppt/media/image4.png" ContentType="image/png"/>
  <Override PartName="/ppt/media/image3.jpeg" ContentType="image/jpeg"/>
  <Override PartName="/ppt/media/image26.jpeg" ContentType="image/jpeg"/>
  <Override PartName="/ppt/media/image24.png" ContentType="image/png"/>
  <Override PartName="/ppt/media/image23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4.jpeg" ContentType="image/jpeg"/>
  <Override PartName="/ppt/media/image2.png" ContentType="image/png"/>
  <Override PartName="/ppt/media/image2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86EF-5418-4F3F-A608-40D3CB055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1311-18DF-493D-9A38-1DB044174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9098-75B8-47F8-93FE-055363D5C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D3AA-5121-4851-B51F-93687DBA2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8644DC-CBC8-4E41-950C-95BAF0F58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EE446F-9ABA-4E91-B8EE-642F09A48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1D5343-3783-49B1-B668-30E92FE71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980635-79AD-41F0-9029-7D1470ED8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B80BC9-F4BB-47FB-ADE3-C18A47E69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CCFE7A-8DCE-49B1-8858-67464AFC0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58852D-2B1D-4FDD-87D9-800D3F1E4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968A-3708-437E-9682-05A79C8C1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707B3B-6F28-4BAE-8107-69ABDB187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217C43-99EA-4342-BBBD-026EC4773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057BEF-A225-4BF6-A7C5-2F99F2E22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1079C7-01E5-4DDB-8297-2529B73CA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F3DA78-C80E-445D-90A7-C18C8B5ED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09EA7-F448-428F-8946-EEA0BDE2A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0BE4C-6D39-4145-B644-B33C33402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CDD9A-3A4A-4F87-AEB7-D21FD08DE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D4F1F-C24C-48E2-B9AB-B95DCC3C1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FE8EA-693B-4A35-8F3A-B6C5A589B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DC58-8D6E-4701-BA24-87269C35F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D9FC7-4B85-482E-8608-A11725008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E351D-B229-408F-8770-7A6E82BC0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749C5-CBEE-423D-B784-BE01B68B8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1BCF8-B9CF-41EA-A9C4-54BEA8B0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0B504-779C-4AB6-B9A8-360BD425E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7CA44-3082-4CAE-BCAA-F951C52FA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0D881-D096-4AAF-BF92-427512C1D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D932AF-761A-4CDF-AD65-99705514F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32B9AF-C002-43AA-9014-31234D6C8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4BDADE-3393-4454-97AD-CA3835EF7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A43A-8D44-4C02-B96B-066657108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CB418E-9166-4B6E-86F9-FA5CB1339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ACB42D-C290-49DE-98EA-6D462A48A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C7484B-2EE3-462B-A918-B576599E5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317ED1-42A9-4D12-8868-880BF9B8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DCC629-7231-4DBF-B618-AFF4ACD68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601AD0-C1EE-40C3-B097-3CE93E1DB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45D256-BD20-4A8F-BB39-1ABD71DAF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ED3498-A676-48AD-90E4-DF0A69CBF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B830F4-AC1A-4407-8301-E58010ACB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D36A-47CF-4369-91E7-138D18611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6B26-F3D7-4B64-9A9A-F22D0C83F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AE50-0A3B-4D0E-AF41-F9A815D05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16FD-7D80-4A87-B0B2-B7A5DC02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2007-7007-4C14-8043-F467007F7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4d26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EFC9C-EAE8-4C74-A9CD-B8E3E8088CB9}" type="slidenum">
              <a:rPr b="0" lang="ru-RU" sz="1600" spc="-1" strike="noStrike">
                <a:solidFill>
                  <a:srgbClr val="444d26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7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fffe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ая соединительная линия 12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fffe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Овал 13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4d26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669EB-0B53-4670-A5FF-AC905D58B636}" type="slidenum">
              <a:rPr b="0" lang="ru-RU" sz="1600" spc="-1" strike="noStrike">
                <a:solidFill>
                  <a:srgbClr val="444d26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4d26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2E721-3D36-431A-A23D-F81E0B743F78}" type="slidenum">
              <a:rPr b="0" lang="ru-RU" sz="1600" spc="-1" strike="noStrike">
                <a:solidFill>
                  <a:srgbClr val="444d26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9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fffe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ая соединительная линия 16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fffe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BA152-2024-475D-983F-9D137745CE3C}" type="slidenum">
              <a:rPr b="0" lang="ru-RU" sz="1600" spc="-1" strike="noStrike">
                <a:solidFill>
                  <a:srgbClr val="444d26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4d26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images.yandex.ru/yandsearch?ed=1&amp;text=&#1082;&#1086;&#1088;&#1088;&#1091;&#1087;&#1094;&#1080;&#1103;&amp;img_url=uksvoidom.ru/images/pages/pic/120_61.jpg&amp;rpt=simage&amp;p=9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ed=1&amp;text=&#1082;&#1086;&#1088;&#1088;&#1091;&#1087;&#1094;&#1080;&#1103;&amp;img_url=mouvaldivatskoe.ucoz.ru/_si/0/61078101.jpg&amp;rpt=simage&amp;p=8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ed=1&amp;text=&#1076;&#1084;&#1080;&#1090;&#1088;&#1080;&#1081;%20&#1084;&#1077;&#1076;&#1074;&#1077;&#1076;&#1077;&#1074;%20&#1092;&#1086;&#1090;&#1086;%20&#1080;%20&#1082;&#1072;&#1088;&#1090;&#1080;&#1085;&#1082;&#1080;&amp;p=1&amp;img_url=news.pskovonline.ru/images/medvedev_ofic_b02.jpg&amp;rpt=simage" TargetMode="External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images.yandex.ru/yandsearch?ed=1&amp;text=&#1088;&#1091;&#1089;&#1089;&#1082;&#1080;&#1077;%20&#1083;&#1077;&#1090;&#1086;&#1087;&#1080;&#1089;&#1080;%20&#1082;&#1072;&#1088;&#1090;&#1080;&#1085;&#1082;&#1080;&amp;p=57&amp;img_url=img12.nnm.ru/2/a/f/2/4/0ee473f45b5a00260c96e839d3b_prev.jpg&amp;rpt=simage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images.yandex.ru/yandsearch?ed=1&amp;text=&#1048;&#1074;&#1072;&#1085;%20III%20&#1082;&#1072;&#1088;&#1090;&#1080;&#1085;&#1082;&#1080;&amp;p=9&amp;img_url=sv-rasseniya.narod.ru/wp-content/uploads/2010/hrono/3-arxeologicheskie/foto-299.jpg&amp;rpt=simage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images.yandex.ru/yandsearch?ed=1&amp;text=&#1048;&#1074;&#1072;&#1085;%20IV%20&#1082;&#1072;&#1088;&#1090;&#1080;&#1085;&#1082;&#1080;&amp;p=0&amp;img_url=www.rulex.ru/portret/31-044.jpg&amp;rpt=simage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images.yandex.ru/yandsearch?ed=1&amp;text=&#1055;&#1077;&#1090;&#1088;%20I%20&#1082;&#1072;&#1088;&#1090;&#1080;&#1085;&#1082;&#1080;&amp;p=18&amp;img_url=img1.liveinternet.ru/images/attach/c/2/68/709/68709486_135208_680x600.jpg&amp;rpt=simage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images.yandex.ru/yandsearch?text=&#1076;&#1077;&#1082;&#1088;&#1077;&#1090;%20&#1086;%20&#1074;&#1079;&#1103;&#1090;&#1086;&#1095;&#1085;&#1080;&#1095;&#1077;&#1089;&#1090;&#1074;&#1077;%201918%20&#1075;%20&#1082;&#1072;&#1088;&#1090;&#1080;&#1085;&#1082;&#1080;&amp;p=0&amp;img_url=donetsk.comments.ua/images/ris8.jpg&amp;rpt=simage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images.yandex.ru/yandsearch?text=&#1043;&#1077;&#1088;&#1073;%20&#1057;&#1057;&#1057;&#1056;%201922%20&#1075;%20&#1082;&#1072;&#1088;&#1090;&#1080;&#1085;&#1082;&#1080;&amp;p=2&amp;img_url=73046.ucoz.ru/_ph/44/2/622579089.gif&amp;rpt=simage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Заголовок 1" descr=""/>
          <p:cNvPicPr/>
          <p:nvPr/>
        </p:nvPicPr>
        <p:blipFill>
          <a:blip r:embed="rId1"/>
          <a:stretch/>
        </p:blipFill>
        <p:spPr>
          <a:xfrm>
            <a:off x="450720" y="1779480"/>
            <a:ext cx="8321760" cy="265932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3" descr="http://im7-tub-ru.yandex.net/i?id=376427860-39-7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85880" y="4214880"/>
            <a:ext cx="2071800" cy="150012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1428480"/>
            <a:ext cx="8305920" cy="34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44d26"/>
                </a:solidFill>
                <a:latin typeface="Constantia"/>
              </a:rPr>
              <a:t>STOP</a:t>
            </a:r>
            <a:r>
              <a:rPr b="0" lang="ru-RU" sz="6000" spc="-1" strike="noStrike">
                <a:solidFill>
                  <a:srgbClr val="444d26"/>
                </a:solidFill>
                <a:latin typeface="Constantia"/>
              </a:rPr>
              <a:t> – 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44d26"/>
                </a:solidFill>
                <a:latin typeface="Constantia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200" spc="-1" strike="noStrike">
                <a:solidFill>
                  <a:srgbClr val="444d26"/>
                </a:solidFill>
                <a:latin typeface="Constantia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200" spc="-1" strike="noStrike">
                <a:solidFill>
                  <a:srgbClr val="444d26"/>
                </a:solidFill>
                <a:latin typeface="Constantia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57200" y="2071800"/>
            <a:ext cx="8229600" cy="40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Международный день борьбы с коррупцией»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1" name="Заголовок 2" descr=""/>
          <p:cNvPicPr/>
          <p:nvPr/>
        </p:nvPicPr>
        <p:blipFill>
          <a:blip r:embed="rId1"/>
          <a:stretch/>
        </p:blipFill>
        <p:spPr>
          <a:xfrm>
            <a:off x="219240" y="311040"/>
            <a:ext cx="8516880" cy="17002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зятка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страта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олокита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ымогательство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Фаворитизм - в государственной и общественной жизни страстное покровительство любимцам (фаворитам) и назначение любимцев на высокие должност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лоупотребление должностными полномочиям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3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642600" y="713880"/>
            <a:ext cx="792972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2e05"/>
                </a:solidFill>
                <a:latin typeface="Times New Roman"/>
                <a:ea typeface="Times New Roman"/>
              </a:rPr>
              <a:t>1 июня 2011 год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f2e05"/>
                </a:solidFill>
                <a:latin typeface="Times New Roman"/>
                <a:ea typeface="Times New Roman"/>
              </a:rPr>
              <a:t>   </a:t>
            </a:r>
            <a:r>
              <a:rPr b="0" lang="ru-RU" sz="2600" spc="-1" strike="noStrike">
                <a:solidFill>
                  <a:srgbClr val="4f2e05"/>
                </a:solidFill>
                <a:latin typeface="Times New Roman"/>
                <a:ea typeface="Times New Roman"/>
              </a:rPr>
              <a:t>Госдума приняла в первом чтении президентский законопроект по борьбе с коррупцие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f2e05"/>
                </a:solidFill>
                <a:latin typeface="Times New Roman"/>
                <a:ea typeface="Times New Roman"/>
              </a:rPr>
              <a:t>Он обязывает чиновников и депутатов каждый год предоставлять сведения о доходах и имуществе своей семьи, наказывает увольнением за неполную декларацию или скрытое участие в работе бизнес - структур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Рисунок 4" descr="http://im6-tub-ru.yandex.net/i?id=527479812-35-7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7720" y="4000680"/>
            <a:ext cx="2714400" cy="22143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Содержимое 6" descr="http://im8-tub-ru.yandex.net/i?id=546333842-62-7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43680" y="0"/>
            <a:ext cx="4000320" cy="3714840"/>
          </a:xfrm>
          <a:prstGeom prst="rect">
            <a:avLst/>
          </a:prstGeom>
          <a:ln w="0">
            <a:noFill/>
          </a:ln>
        </p:spPr>
      </p:pic>
      <p:pic>
        <p:nvPicPr>
          <p:cNvPr id="207" name="Содержимое 9" descr="http://im2-tub-ru.yandex.net/i?id=336083755-59-72"/>
          <p:cNvPicPr/>
          <p:nvPr/>
        </p:nvPicPr>
        <p:blipFill>
          <a:blip r:embed="rId3"/>
          <a:stretch/>
        </p:blipFill>
        <p:spPr>
          <a:xfrm>
            <a:off x="0" y="0"/>
            <a:ext cx="4214880" cy="3714840"/>
          </a:xfrm>
          <a:prstGeom prst="rect">
            <a:avLst/>
          </a:prstGeom>
          <a:ln w="0">
            <a:noFill/>
          </a:ln>
        </p:spPr>
      </p:pic>
      <p:sp>
        <p:nvSpPr>
          <p:cNvPr id="208" name="Прямоугольник 5"/>
          <p:cNvSpPr/>
          <p:nvPr/>
        </p:nvSpPr>
        <p:spPr>
          <a:xfrm>
            <a:off x="214200" y="4143240"/>
            <a:ext cx="4214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e05"/>
                </a:solidFill>
                <a:latin typeface="Times New Roman"/>
                <a:ea typeface="Times New Roman"/>
              </a:rPr>
              <a:t>Владимир Путин, Президент РФ : «Коррупция деморализует общество, разлагает власть и госаппарат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7"/>
          <p:cNvSpPr/>
          <p:nvPr/>
        </p:nvSpPr>
        <p:spPr>
          <a:xfrm>
            <a:off x="4643280" y="4214880"/>
            <a:ext cx="4286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2e05"/>
                </a:solidFill>
                <a:latin typeface="Times New Roman"/>
                <a:ea typeface="Times New Roman"/>
              </a:rPr>
              <a:t>Дмитрий Медведев, премьер-министр РФ : «Хватит ждать! Коррупция превратилась в системную проблему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211" name="Содержимое 9" descr="737_news.jpg"/>
          <p:cNvPicPr/>
          <p:nvPr/>
        </p:nvPicPr>
        <p:blipFill>
          <a:blip r:embed="rId2"/>
          <a:stretch/>
        </p:blipFill>
        <p:spPr>
          <a:xfrm>
            <a:off x="2000160" y="2428920"/>
            <a:ext cx="5715000" cy="37717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Заголовок 1" descr=""/>
          <p:cNvPicPr/>
          <p:nvPr/>
        </p:nvPicPr>
        <p:blipFill>
          <a:blip r:embed="rId1"/>
          <a:stretch/>
        </p:blipFill>
        <p:spPr>
          <a:xfrm>
            <a:off x="225360" y="182520"/>
            <a:ext cx="8785440" cy="1822320"/>
          </a:xfrm>
          <a:prstGeom prst="rect">
            <a:avLst/>
          </a:prstGeom>
          <a:ln w="0">
            <a:noFill/>
          </a:ln>
        </p:spPr>
      </p:pic>
      <p:pic>
        <p:nvPicPr>
          <p:cNvPr id="213" name="Содержимое 3" descr="кор 6.jpg"/>
          <p:cNvPicPr/>
          <p:nvPr/>
        </p:nvPicPr>
        <p:blipFill>
          <a:blip r:embed="rId2"/>
          <a:stretch/>
        </p:blipFill>
        <p:spPr>
          <a:xfrm>
            <a:off x="0" y="2133720"/>
            <a:ext cx="4560840" cy="4530600"/>
          </a:xfrm>
          <a:prstGeom prst="rect">
            <a:avLst/>
          </a:prstGeom>
          <a:ln w="0">
            <a:noFill/>
          </a:ln>
        </p:spPr>
      </p:pic>
      <p:sp>
        <p:nvSpPr>
          <p:cNvPr id="214" name="Прямоугольник 3"/>
          <p:cNvSpPr/>
          <p:nvPr/>
        </p:nvSpPr>
        <p:spPr>
          <a:xfrm>
            <a:off x="4737960" y="2852640"/>
            <a:ext cx="425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Борьб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 коррупцией –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дело каждого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928800" y="1523880"/>
            <a:ext cx="7300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f2e05"/>
                </a:solidFill>
                <a:latin typeface="Times New Roman"/>
                <a:ea typeface="Times New Roman"/>
              </a:rPr>
              <a:t>Спасибо за внимание !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6" name="Рисунок 3" descr="http://im0-tub-ru.yandex.net/i?id=334477022-11-72"/>
          <p:cNvPicPr/>
          <p:nvPr/>
        </p:nvPicPr>
        <p:blipFill>
          <a:blip r:embed="rId1"/>
          <a:stretch/>
        </p:blipFill>
        <p:spPr>
          <a:xfrm>
            <a:off x="3143160" y="3429000"/>
            <a:ext cx="2714760" cy="25588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57200" y="164268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«а)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злоупотребление служебным положением, дача взятки, получение взятки, злоупотребление полномочиями, коммерческий подкуп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либо иное незаконное использование физическим лицом своего должностного положения вопреки законным интересам общества и государства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в целях получения выгоды в виде денег, ценностей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иного имущества или услуг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мущественного характера, иных имущественных прав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для себя или для третьих лиц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либо незаконное предоставление такой выгоды указанному лицу другими физическими лицами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4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4335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Заголовок 2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8229600" cy="7477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 txBox="1"/>
          <p:nvPr/>
        </p:nvSpPr>
        <p:spPr>
          <a:xfrm>
            <a:off x="457200" y="999720"/>
            <a:ext cx="418608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2e05"/>
                </a:solidFill>
                <a:latin typeface="Times New Roman"/>
                <a:ea typeface="Times New Roman"/>
              </a:rPr>
              <a:t>XIII век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2e05"/>
                </a:solidFill>
                <a:latin typeface="Times New Roman"/>
                <a:ea typeface="Times New Roman"/>
              </a:rPr>
              <a:t>В России, первые упоминания о коррупции, которая определялась  понятием  «мздоимство», исходят  из русских  летописей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f2e05"/>
                </a:solidFill>
                <a:latin typeface="Times New Roman"/>
                <a:ea typeface="Times New Roman"/>
              </a:rPr>
              <a:t>В законе за мздоимство назначались кары, но их почти никто не боялся, и взятки брали все, а кто их не брал, тех звали простофилями и даже дуракам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647960" y="1523880"/>
            <a:ext cx="4059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8" name="Рисунок 4" descr="http://im7-tub-ru.yandex.net/i?id=86916555-23-7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3280" y="1500120"/>
            <a:ext cx="4143600" cy="464364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457200" y="1071720"/>
            <a:ext cx="8229600" cy="50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f2e05"/>
                </a:solidFill>
                <a:latin typeface="Times New Roman"/>
                <a:ea typeface="Times New Roman"/>
              </a:rPr>
              <a:t>XV век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f2e05"/>
                </a:solidFill>
                <a:latin typeface="Times New Roman"/>
                <a:ea typeface="Times New Roman"/>
              </a:rPr>
              <a:t>Первое законодательное ограничение    коррупционной деятельности было           осуществлено в царствование Ивана III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f2e05"/>
                </a:solidFill>
                <a:latin typeface="Times New Roman"/>
                <a:ea typeface="Times New Roman"/>
              </a:rPr>
              <a:t>Судебник 1497 г устанавливал розыскную            форму процесса, предусматривал в качестве             мер наказания смертную казнь, торговую казнь (битьё кнутом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f2e05"/>
                </a:solidFill>
                <a:latin typeface="Times New Roman"/>
                <a:ea typeface="Times New Roman"/>
              </a:rPr>
              <a:t>Судебник расширил круг деяний, признавшихся уголовно наказуемыми: крамола, «церковная татьба» (святотатство), ябедничество; дал понятие преступления, а также особо опасного преступлени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80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01268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4" descr="http://im3-tub-ru.yandex.net/i?id=160631447-12-7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143840" y="1143000"/>
            <a:ext cx="1643040" cy="22147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804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 txBox="1"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f2e05"/>
                </a:solidFill>
                <a:latin typeface="Times New Roman"/>
                <a:ea typeface="Times New Roman"/>
              </a:rPr>
              <a:t>XVI век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2e05"/>
                </a:solidFill>
                <a:latin typeface="Times New Roman"/>
                <a:ea typeface="Times New Roman"/>
              </a:rPr>
              <a:t>Во время правления                        Ивана IV, впервые                        ввелась смертная казнь в наказание                                 за чрезмерность во взятках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84" name="Содержимое 5" descr="http://im3-tub-ru.yandex.net/i?id=145416081-42-7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964040" y="152388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Заголовок 3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80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 txBox="1"/>
          <p:nvPr/>
        </p:nvSpPr>
        <p:spPr>
          <a:xfrm>
            <a:off x="4647960" y="1523880"/>
            <a:ext cx="4059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2e05"/>
                </a:solidFill>
                <a:latin typeface="Times New Roman"/>
                <a:ea typeface="Times New Roman"/>
              </a:rPr>
              <a:t>XVIII век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f2e05"/>
                </a:solidFill>
                <a:latin typeface="Times New Roman"/>
                <a:ea typeface="Times New Roman"/>
              </a:rPr>
              <a:t>При Петре I в России был широкий размах и коррупции, и одновременно жестокой борьбы с ней. Так, Петр I совместно с коллегиями ввёл деятельность Тайной канцелярии (Тайной полиции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87" name="Содержимое 8" descr="http://im0-tub-ru.yandex.net/i?id=350442502-65-7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7160" y="2000160"/>
            <a:ext cx="3357720" cy="32860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Текст 4" descr=""/>
          <p:cNvPicPr/>
          <p:nvPr/>
        </p:nvPicPr>
        <p:blipFill>
          <a:blip r:embed="rId1"/>
          <a:stretch/>
        </p:blipFill>
        <p:spPr>
          <a:xfrm>
            <a:off x="347760" y="1395360"/>
            <a:ext cx="4157640" cy="7747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 txBox="1"/>
          <p:nvPr/>
        </p:nvSpPr>
        <p:spPr>
          <a:xfrm>
            <a:off x="457200" y="2201760"/>
            <a:ext cx="4038480" cy="39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177120" indent="-17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первые в России ввел в практику декларирование имуществ государственных служащих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77120" indent="-17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77120" indent="-17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77120" indent="-17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77120" indent="-17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77120" indent="-17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77120" indent="-17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77120" indent="-17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77120" indent="-17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77120" indent="-177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Александр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I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649760" y="2201760"/>
            <a:ext cx="4038480" cy="39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1" name="Заголовок 2" descr=""/>
          <p:cNvPicPr/>
          <p:nvPr/>
        </p:nvPicPr>
        <p:blipFill>
          <a:blip r:embed="rId2"/>
          <a:stretch/>
        </p:blipFill>
        <p:spPr>
          <a:xfrm>
            <a:off x="212760" y="152280"/>
            <a:ext cx="8480520" cy="115884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648320" y="1399680"/>
            <a:ext cx="4039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600" spc="-1" strike="noStrike">
              <a:solidFill>
                <a:srgbClr val="444d26"/>
              </a:solidFill>
              <a:latin typeface="Constantia"/>
            </a:endParaRPr>
          </a:p>
        </p:txBody>
      </p:sp>
      <p:pic>
        <p:nvPicPr>
          <p:cNvPr id="193" name="Рисунок 3" descr="48730b9e91f9.jpg"/>
          <p:cNvPicPr/>
          <p:nvPr/>
        </p:nvPicPr>
        <p:blipFill>
          <a:blip r:embed="rId3"/>
          <a:stretch/>
        </p:blipFill>
        <p:spPr>
          <a:xfrm>
            <a:off x="4643280" y="1357200"/>
            <a:ext cx="4286520" cy="528660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Заголовок 3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80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 txBox="1"/>
          <p:nvPr/>
        </p:nvSpPr>
        <p:spPr>
          <a:xfrm>
            <a:off x="4647960" y="1523880"/>
            <a:ext cx="4059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2e05"/>
                </a:solidFill>
                <a:latin typeface="Times New Roman"/>
                <a:ea typeface="Times New Roman"/>
              </a:rPr>
              <a:t>1918 г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f2e05"/>
                </a:solidFill>
                <a:latin typeface="Times New Roman"/>
                <a:ea typeface="Times New Roman"/>
              </a:rPr>
              <a:t>По декрету о взяточничестве полагалось тюремное заключение на 5 лет с конфискацией имуществ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6" name="Содержимое 6" descr="http://im4-tub-ru.yandex.net/i?id=165656253-16-7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17640" y="1523880"/>
            <a:ext cx="3138480" cy="457200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80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 txBox="1"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f2e05"/>
                </a:solidFill>
                <a:latin typeface="Times New Roman"/>
                <a:ea typeface="Times New Roman"/>
              </a:rPr>
              <a:t>1922 г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f2e05"/>
                </a:solidFill>
                <a:latin typeface="Times New Roman"/>
                <a:ea typeface="Times New Roman"/>
              </a:rPr>
              <a:t>По Уголовному кодексу за взяточничество – расстрел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f2e05"/>
                </a:solidFill>
                <a:latin typeface="Times New Roman"/>
                <a:ea typeface="Times New Roman"/>
              </a:rPr>
              <a:t>1957 г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f2e05"/>
                </a:solidFill>
                <a:latin typeface="Times New Roman"/>
                <a:ea typeface="Times New Roman"/>
              </a:rPr>
              <a:t>Официальная борьба приостановлена, так как коррупция считалась редким явлением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Содержимое 5" descr="http://im7-tub-ru.yandex.net/i?id=337545037-34-7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86200" y="1857240"/>
            <a:ext cx="3214800" cy="342900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5:54:17Z</dcterms:created>
  <dc:creator>Татьяна</dc:creator>
  <dc:description/>
  <dc:language>en-US</dc:language>
  <cp:lastModifiedBy>MCOM</cp:lastModifiedBy>
  <dcterms:modified xsi:type="dcterms:W3CDTF">2020-12-04T08:13:29Z</dcterms:modified>
  <cp:revision>57</cp:revision>
  <dc:subject/>
  <dc:title>Слайд 1</dc:title>
</cp:coreProperties>
</file>